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F9B-F153-410F-87A5-BCB98387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13E6-BE04-4510-A22A-6F70F4E4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5252-EBDB-4603-8023-137672FE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8D8-CBD7-49A0-BBEA-2A779CF6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5403F-CB90-4961-BB1B-734F54F2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49C2A-DB47-48B3-B066-03E1847E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90EB2-54B9-4EC0-B010-330A4A97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7BD76-ADC7-4CB1-B16D-D490151A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DE14A-7C31-4B70-92F4-D5442D6B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C533D-6840-4788-9F06-987F63F8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FBE8E-53BC-4E96-913F-AAC101CF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D84-A49F-4F5A-9AF7-BB96CB25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FF2AD-A06C-4824-83B6-6D7A60F7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F1B1E-F7F1-41A6-AA49-CA8E2467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3A2B2-181D-4863-B941-1A29DC36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B83BD-1AA3-4E2D-9FE4-C46FDAD2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41418-9270-4DDE-A7B9-11861676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55D-B449-403C-BDC4-9DE6FD0F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1AA-C845-4B4D-B860-2EA98027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81B-04C9-473B-870A-77864F24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D0A-DB2A-4E74-92A5-5108B9EC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EC5-654F-4B05-9E08-61B2BF96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C5E-B1CB-4A81-A63B-0B48BE36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C7CF-327D-4653-8530-AB525370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F592-34FD-4A81-A0E6-A48EDBE68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A91D-E68C-4F38-B0F3-4383434F5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lanetware.com/i/photo/acropolis-parthenon-athens-gr003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lawforwa.org/zbento/homepage/images/jury.jpg&amp;imgrefurl=http://www.lawforwa.org/&amp;usg=__h2qNbvhBbEy-AgY8mi6LvTowttY=&amp;h=358&amp;w=360&amp;sz=49&amp;hl=en&amp;start=6&amp;tbnid=KgarsbK-oHuScM:&amp;tbnh=120&amp;tbnw=121&amp;prev=/images%3Fq%3Djury%26hl%3De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ehappyandfree.com/pdf/socrates&amp;imgrefurl=http://www.behappyandfree.com/Home/links.html&amp;usg=__v0VUx9w8KTjC4pNgfDW4te6Azug=&amp;h=511&amp;w=340&amp;sz=18&amp;hl=en&amp;start=2&amp;tbnid=gxrV1asi5FYYuM:&amp;tbnh=131&amp;tbnw=87&amp;prev=/images%3Fq%3DSocrates%26hl%3Den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olden Age in Athe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6, Lesson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80 B.C.-338 B.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hens Rebuil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eks defeated the Pers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fe didn’t change after the victory, but they began a “golden age,” a period of wealth and gl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helped Athens defeat the Persia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457880" y="2514600"/>
            <a:ext cx="46861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ity of Athe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the war, most of Athens was destroy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henians had to rebuild their city on a grander scale (What does this mean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the heart of the Acropolis was a marble temple to Athena called the Parthen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s ruins still rise over Athens to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4343400"/>
            <a:ext cx="335304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943600" y="2057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28600" y="39625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029200" y="4038480"/>
            <a:ext cx="3919680" cy="2652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Parthen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overnment and Culture in Athe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hens was a democr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y had an assembly, which is a lawmaking body of government (citizens voted on issues that concerned them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cles was the leader of Athens around 450 B.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 made sure all citizens, rich or poor, could serve in the assembly and sit on a ju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cles arranged for people in the assembly or serving on the jury to be pa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rn to page 200 (Read the Primary Source) What does Pericles say about a citizen who has no interest in governmen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4968720"/>
            <a:ext cx="19051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ilosoph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ecial schools to teach Philosoph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ilosophy-the search for wisdom and the right way to l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rates is a famous philosop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 questioned Athenian laws, customs, and tradi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 was put on trial for “urging Athens’ young people to revolt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 was sentenced to deat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e of his students, Plato, wrote down his ideas and later became a famous teac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0"/>
            <a:ext cx="2347920" cy="3533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181480" y="3505320"/>
            <a:ext cx="2689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eek Dra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ek writers invented a new theater form-dr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mas were plays that shared choices of an individual, good and evil, and soci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gedies and come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ere some features of the Golden Age of Athe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 questions on page 201 in the red bo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23:09:28Z</dcterms:created>
  <dc:creator>School District</dc:creator>
  <dc:description/>
  <dc:language>en-US</dc:language>
  <cp:lastModifiedBy>School District</cp:lastModifiedBy>
  <dcterms:modified xsi:type="dcterms:W3CDTF">2011-01-20T18:20:41Z</dcterms:modified>
  <cp:revision>6</cp:revision>
  <dc:subject/>
  <dc:title>The Golden Age in Athens</dc:title>
</cp:coreProperties>
</file>